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4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wmf" ContentType="image/x-wmf"/>
  <Override PartName="/ppt/media/image36.jpeg" ContentType="image/jpeg"/>
  <Override PartName="/ppt/media/image14.wmf" ContentType="image/x-wmf"/>
  <Override PartName="/ppt/media/image22.jpeg" ContentType="image/jpeg"/>
  <Override PartName="/ppt/media/image9.png" ContentType="image/png"/>
  <Override PartName="/ppt/media/image15.wmf" ContentType="image/x-wmf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11.wmf" ContentType="image/x-wmf"/>
  <Override PartName="/ppt/media/image50.png" ContentType="image/png"/>
  <Override PartName="/ppt/media/image37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17.wmf" ContentType="image/x-wmf"/>
  <Override PartName="/ppt/media/image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39.jpeg" ContentType="image/jpeg"/>
  <Override PartName="/ppt/media/image8.png" ContentType="image/png"/>
  <Override PartName="/ppt/media/image45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5934240"/>
            <a:ext cx="12195000" cy="923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12195000" cy="1219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0561680" y="5935680"/>
            <a:ext cx="1235160" cy="8334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0518840" y="6019920"/>
            <a:ext cx="1676160" cy="8380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0747440" y="5486400"/>
            <a:ext cx="914400" cy="63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250920" y="476280"/>
            <a:ext cx="942840" cy="1082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12960" y="1125360"/>
            <a:ext cx="108727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80960" y="64008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上海航运交易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12195000" cy="688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0563120" y="5935680"/>
            <a:ext cx="1235160" cy="833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518840" y="6019920"/>
            <a:ext cx="167616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0748880" y="5486400"/>
            <a:ext cx="914400" cy="635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649680" y="4220640"/>
            <a:ext cx="496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张页  上海航运交易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14.11.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960" y="1413000"/>
            <a:ext cx="11444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态</a:t>
            </a:r>
            <a:r>
              <a:rPr b="1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新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格局</a:t>
            </a:r>
            <a:r>
              <a:rPr b="1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新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业态</a:t>
            </a:r>
            <a:br>
              <a:rPr sz="88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5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椭圆 32" descr=""/>
          <p:cNvPicPr/>
          <p:nvPr/>
        </p:nvPicPr>
        <p:blipFill>
          <a:blip r:embed="rId2"/>
          <a:stretch/>
        </p:blipFill>
        <p:spPr>
          <a:xfrm>
            <a:off x="5745240" y="1989000"/>
            <a:ext cx="841320" cy="847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873760" y="2133720"/>
            <a:ext cx="55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6956280" y="2865600"/>
            <a:ext cx="2441880" cy="458640"/>
          </a:xfrm>
          <a:custGeom>
            <a:avLst/>
            <a:gdLst/>
            <a:ahLst/>
            <a:rect l="l" t="t" r="r" b="b"/>
            <a:pathLst>
              <a:path w="3783604" h="689605">
                <a:moveTo>
                  <a:pt x="39188" y="0"/>
                </a:moveTo>
                <a:lnTo>
                  <a:pt x="3783604" y="0"/>
                </a:lnTo>
                <a:lnTo>
                  <a:pt x="3783604" y="689605"/>
                </a:lnTo>
                <a:lnTo>
                  <a:pt x="0" y="572039"/>
                </a:lnTo>
                <a:lnTo>
                  <a:pt x="391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5"/>
          <p:cNvSpPr/>
          <p:nvPr/>
        </p:nvSpPr>
        <p:spPr>
          <a:xfrm>
            <a:off x="6469200" y="2612880"/>
            <a:ext cx="401400" cy="30348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5"/>
          <p:cNvSpPr/>
          <p:nvPr/>
        </p:nvSpPr>
        <p:spPr>
          <a:xfrm flipH="1">
            <a:off x="6955560" y="2565360"/>
            <a:ext cx="244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椭圆 37"/>
          <p:cNvGrpSpPr/>
          <p:nvPr/>
        </p:nvGrpSpPr>
        <p:grpSpPr>
          <a:xfrm>
            <a:off x="5081760" y="2990880"/>
            <a:ext cx="860400" cy="871560"/>
            <a:chOff x="5081760" y="2990880"/>
            <a:chExt cx="860400" cy="871560"/>
          </a:xfrm>
        </p:grpSpPr>
        <p:pic>
          <p:nvPicPr>
            <p:cNvPr id="153" name="椭圆 37" descr=""/>
            <p:cNvPicPr/>
            <p:nvPr/>
          </p:nvPicPr>
          <p:blipFill>
            <a:blip r:embed="rId3"/>
            <a:stretch/>
          </p:blipFill>
          <p:spPr>
            <a:xfrm>
              <a:off x="5081760" y="2990880"/>
              <a:ext cx="860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227920" y="3141720"/>
              <a:ext cx="56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Impact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直接连接符 40"/>
          <p:cNvSpPr/>
          <p:nvPr/>
        </p:nvSpPr>
        <p:spPr>
          <a:xfrm>
            <a:off x="5772240" y="3711600"/>
            <a:ext cx="401400" cy="30312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椭圆 42"/>
          <p:cNvGrpSpPr/>
          <p:nvPr/>
        </p:nvGrpSpPr>
        <p:grpSpPr>
          <a:xfrm>
            <a:off x="4361040" y="4149720"/>
            <a:ext cx="865080" cy="865080"/>
            <a:chOff x="4361040" y="4149720"/>
            <a:chExt cx="865080" cy="865080"/>
          </a:xfrm>
        </p:grpSpPr>
        <p:pic>
          <p:nvPicPr>
            <p:cNvPr id="157" name="椭圆 42" descr=""/>
            <p:cNvPicPr/>
            <p:nvPr/>
          </p:nvPicPr>
          <p:blipFill>
            <a:blip r:embed="rId4"/>
            <a:stretch/>
          </p:blipFill>
          <p:spPr>
            <a:xfrm>
              <a:off x="4361040" y="41497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510080" y="4295880"/>
              <a:ext cx="569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Impact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5"/>
          <p:cNvSpPr/>
          <p:nvPr/>
        </p:nvSpPr>
        <p:spPr>
          <a:xfrm>
            <a:off x="5562720" y="5064120"/>
            <a:ext cx="2441520" cy="457200"/>
          </a:xfrm>
          <a:custGeom>
            <a:avLst/>
            <a:gdLst/>
            <a:ahLst/>
            <a:rect l="l" t="t" r="r" b="b"/>
            <a:pathLst>
              <a:path w="3783604" h="689605">
                <a:moveTo>
                  <a:pt x="39188" y="0"/>
                </a:moveTo>
                <a:lnTo>
                  <a:pt x="3783604" y="0"/>
                </a:lnTo>
                <a:lnTo>
                  <a:pt x="3783604" y="689605"/>
                </a:lnTo>
                <a:lnTo>
                  <a:pt x="0" y="572039"/>
                </a:lnTo>
                <a:lnTo>
                  <a:pt x="391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4"/>
          <p:cNvSpPr/>
          <p:nvPr/>
        </p:nvSpPr>
        <p:spPr>
          <a:xfrm>
            <a:off x="5494320" y="4941720"/>
            <a:ext cx="2516040" cy="457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业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45"/>
          <p:cNvSpPr/>
          <p:nvPr/>
        </p:nvSpPr>
        <p:spPr>
          <a:xfrm>
            <a:off x="5076720" y="4809960"/>
            <a:ext cx="401760" cy="30348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7"/>
          <p:cNvSpPr/>
          <p:nvPr/>
        </p:nvSpPr>
        <p:spPr>
          <a:xfrm>
            <a:off x="1999440" y="2544840"/>
            <a:ext cx="7898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9"/>
          <p:cNvSpPr/>
          <p:nvPr/>
        </p:nvSpPr>
        <p:spPr>
          <a:xfrm>
            <a:off x="6969240" y="2781360"/>
            <a:ext cx="2441520" cy="457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常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2195000" cy="1557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21600" y="371628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新格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7"/>
          <p:cNvSpPr/>
          <p:nvPr/>
        </p:nvSpPr>
        <p:spPr>
          <a:xfrm>
            <a:off x="1997640" y="2565360"/>
            <a:ext cx="7898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8"/>
          <p:cNvSpPr/>
          <p:nvPr/>
        </p:nvSpPr>
        <p:spPr>
          <a:xfrm>
            <a:off x="1843200" y="1455840"/>
            <a:ext cx="869760" cy="869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 Narrow"/>
                <a:ea typeface="微软雅黑"/>
              </a:rPr>
              <a:t>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9"/>
          <p:cNvSpPr/>
          <p:nvPr/>
        </p:nvSpPr>
        <p:spPr>
          <a:xfrm>
            <a:off x="1273320" y="229716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 Narrow"/>
                <a:ea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90680" y="1557360"/>
            <a:ext cx="869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新的贸易全球化产生新的航运格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航线干线慨念减弱，航线网络化增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76960" y="2852640"/>
            <a:ext cx="5400720" cy="3117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50040" y="2852640"/>
            <a:ext cx="5402160" cy="311652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28960" y="2852640"/>
            <a:ext cx="52563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90680" y="1557360"/>
            <a:ext cx="869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“二带一路”催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渝新欧（汉新欧 ）</a:t>
            </a:r>
            <a:r>
              <a:rPr b="1" lang="zh-CN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长江航运 </a:t>
            </a:r>
            <a:r>
              <a:rPr b="1" lang="zh-CN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世纪海上丝绸之路 </a:t>
            </a:r>
            <a:r>
              <a:rPr b="1" lang="zh-CN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南亚 </a:t>
            </a:r>
            <a:r>
              <a:rPr b="1" lang="zh-CN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欧美新布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60960" y="2637000"/>
            <a:ext cx="4381560" cy="3286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881680" y="1916280"/>
            <a:ext cx="4321080" cy="4295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90680" y="1557360"/>
            <a:ext cx="86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集装箱的四大联盟将主导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90%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的集装箱运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185760" y="5535720"/>
          <a:ext cx="185760" cy="5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85760" y="5535720"/>
                    <a:ext cx="1857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8329680" y="3429000"/>
            <a:ext cx="3043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KY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176960" y="1844640"/>
            <a:ext cx="4052880" cy="3951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17680" y="1508040"/>
            <a:ext cx="5472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美国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FMC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最新观点指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  “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承运人全球化联盟”将迫使“监管全球化”，不再是单个国家单独的监管，是否需要建立“监管国际合作组织”，至少证据、信息共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3"/>
          <p:cNvSpPr/>
          <p:nvPr/>
        </p:nvSpPr>
        <p:spPr>
          <a:xfrm>
            <a:off x="1847880" y="2998800"/>
            <a:ext cx="2448000" cy="337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3586d7"/>
              </a:gs>
            </a:gsLst>
            <a:lin ang="5400000"/>
          </a:gra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码标价，遏制零负运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584600" y="2998800"/>
            <a:ext cx="2592360" cy="337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3586d7"/>
              </a:gs>
            </a:gsLst>
            <a:lin ang="5400000"/>
          </a:gra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控竞争，促进市场公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7466040" y="2998800"/>
            <a:ext cx="2519280" cy="337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3586d7"/>
              </a:gs>
            </a:gsLst>
            <a:lin ang="5400000"/>
          </a:gra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行为，保护合法经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55920" y="3632040"/>
          <a:ext cx="6954840" cy="2676600"/>
        </p:xfrm>
        <a:graphic>
          <a:graphicData uri="http://schemas.openxmlformats.org/drawingml/2006/table">
            <a:tbl>
              <a:tblPr/>
              <a:tblGrid>
                <a:gridCol w="2749680"/>
                <a:gridCol w="1430280"/>
                <a:gridCol w="1131840"/>
                <a:gridCol w="1643040"/>
              </a:tblGrid>
              <a:tr h="7524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ffffff"/>
                          </a:solidFill>
                          <a:latin typeface="冬青黑体简体中文 W3"/>
                          <a:ea typeface="微软雅黑"/>
                        </a:rPr>
                        <a:t>受理类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ffffff"/>
                          </a:solidFill>
                          <a:latin typeface="冬青黑体简体中文 W3"/>
                          <a:ea typeface="微软雅黑"/>
                        </a:rPr>
                        <a:t>备案模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ffffff"/>
                          </a:solidFill>
                          <a:latin typeface="冬青黑体简体中文 W3"/>
                          <a:ea typeface="微软雅黑"/>
                        </a:rPr>
                        <a:t>备案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ffffff"/>
                          </a:solidFill>
                          <a:latin typeface="冬青黑体简体中文 W3"/>
                          <a:ea typeface="微软雅黑"/>
                        </a:rPr>
                        <a:t>情况说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国际集装箱班轮运价备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精细化报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6050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万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备案企业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112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无船承运业务经营者运价备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幅度报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443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万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备案企业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3727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台湾海峡两岸间集装箱班轮运价备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精细化报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67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万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备案企业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40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冬青黑体简体中文 W3"/>
                          <a:ea typeface="微软雅黑"/>
                        </a:rPr>
                        <a:t>国内水路集装箱班轮运价备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   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精细化报备      （船期航线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千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备案企业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3904</a:t>
                      </a:r>
                      <a:r>
                        <a:rPr b="1" i="1" lang="zh-CN" sz="1000" spc="-1" strike="noStrike">
                          <a:solidFill>
                            <a:srgbClr val="003399"/>
                          </a:solidFill>
                          <a:latin typeface="微软雅黑"/>
                          <a:ea typeface="微软雅黑"/>
                        </a:rPr>
                        <a:t>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d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0680" y="1557360"/>
            <a:ext cx="917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中国交通运输部将进一步放开和下放审批，进一步加强“事中事后”监管。全国运价备案监管中心有望建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5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椭圆 32" descr=""/>
          <p:cNvPicPr/>
          <p:nvPr/>
        </p:nvPicPr>
        <p:blipFill>
          <a:blip r:embed="rId2"/>
          <a:stretch/>
        </p:blipFill>
        <p:spPr>
          <a:xfrm>
            <a:off x="5745240" y="1989000"/>
            <a:ext cx="841320" cy="847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873760" y="2133720"/>
            <a:ext cx="55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5"/>
          <p:cNvSpPr/>
          <p:nvPr/>
        </p:nvSpPr>
        <p:spPr>
          <a:xfrm>
            <a:off x="6956280" y="2865600"/>
            <a:ext cx="2441880" cy="458640"/>
          </a:xfrm>
          <a:custGeom>
            <a:avLst/>
            <a:gdLst/>
            <a:ahLst/>
            <a:rect l="l" t="t" r="r" b="b"/>
            <a:pathLst>
              <a:path w="3783604" h="689605">
                <a:moveTo>
                  <a:pt x="39188" y="0"/>
                </a:moveTo>
                <a:lnTo>
                  <a:pt x="3783604" y="0"/>
                </a:lnTo>
                <a:lnTo>
                  <a:pt x="3783604" y="689605"/>
                </a:lnTo>
                <a:lnTo>
                  <a:pt x="0" y="572039"/>
                </a:lnTo>
                <a:lnTo>
                  <a:pt x="391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35"/>
          <p:cNvSpPr/>
          <p:nvPr/>
        </p:nvSpPr>
        <p:spPr>
          <a:xfrm>
            <a:off x="6469200" y="2612880"/>
            <a:ext cx="401400" cy="30348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5"/>
          <p:cNvSpPr/>
          <p:nvPr/>
        </p:nvSpPr>
        <p:spPr>
          <a:xfrm flipH="1">
            <a:off x="6955560" y="2565360"/>
            <a:ext cx="244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椭圆 37"/>
          <p:cNvGrpSpPr/>
          <p:nvPr/>
        </p:nvGrpSpPr>
        <p:grpSpPr>
          <a:xfrm>
            <a:off x="5081760" y="2990880"/>
            <a:ext cx="860400" cy="871560"/>
            <a:chOff x="5081760" y="2990880"/>
            <a:chExt cx="860400" cy="871560"/>
          </a:xfrm>
        </p:grpSpPr>
        <p:pic>
          <p:nvPicPr>
            <p:cNvPr id="199" name="椭圆 37" descr=""/>
            <p:cNvPicPr/>
            <p:nvPr/>
          </p:nvPicPr>
          <p:blipFill>
            <a:blip r:embed="rId3"/>
            <a:stretch/>
          </p:blipFill>
          <p:spPr>
            <a:xfrm>
              <a:off x="5081760" y="2990880"/>
              <a:ext cx="860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27920" y="3141720"/>
              <a:ext cx="56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Impact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15"/>
          <p:cNvSpPr/>
          <p:nvPr/>
        </p:nvSpPr>
        <p:spPr>
          <a:xfrm>
            <a:off x="6259680" y="3965400"/>
            <a:ext cx="2441520" cy="457200"/>
          </a:xfrm>
          <a:custGeom>
            <a:avLst/>
            <a:gdLst/>
            <a:ahLst/>
            <a:rect l="l" t="t" r="r" b="b"/>
            <a:pathLst>
              <a:path w="3783604" h="689605">
                <a:moveTo>
                  <a:pt x="39188" y="0"/>
                </a:moveTo>
                <a:lnTo>
                  <a:pt x="3783604" y="0"/>
                </a:lnTo>
                <a:lnTo>
                  <a:pt x="3783604" y="689605"/>
                </a:lnTo>
                <a:lnTo>
                  <a:pt x="0" y="572039"/>
                </a:lnTo>
                <a:lnTo>
                  <a:pt x="391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9"/>
          <p:cNvSpPr/>
          <p:nvPr/>
        </p:nvSpPr>
        <p:spPr>
          <a:xfrm>
            <a:off x="6248520" y="3860640"/>
            <a:ext cx="2441520" cy="457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格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0"/>
          <p:cNvSpPr/>
          <p:nvPr/>
        </p:nvSpPr>
        <p:spPr>
          <a:xfrm>
            <a:off x="5772240" y="3711600"/>
            <a:ext cx="401400" cy="30312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椭圆 42"/>
          <p:cNvGrpSpPr/>
          <p:nvPr/>
        </p:nvGrpSpPr>
        <p:grpSpPr>
          <a:xfrm>
            <a:off x="4361040" y="4149720"/>
            <a:ext cx="865080" cy="865080"/>
            <a:chOff x="4361040" y="4149720"/>
            <a:chExt cx="865080" cy="865080"/>
          </a:xfrm>
        </p:grpSpPr>
        <p:pic>
          <p:nvPicPr>
            <p:cNvPr id="205" name="椭圆 42" descr=""/>
            <p:cNvPicPr/>
            <p:nvPr/>
          </p:nvPicPr>
          <p:blipFill>
            <a:blip r:embed="rId4"/>
            <a:stretch/>
          </p:blipFill>
          <p:spPr>
            <a:xfrm>
              <a:off x="4361040" y="41497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10080" y="4295880"/>
              <a:ext cx="569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Impact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直接连接符 45"/>
          <p:cNvSpPr/>
          <p:nvPr/>
        </p:nvSpPr>
        <p:spPr>
          <a:xfrm>
            <a:off x="5076720" y="4809960"/>
            <a:ext cx="401760" cy="30348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9"/>
          <p:cNvSpPr/>
          <p:nvPr/>
        </p:nvSpPr>
        <p:spPr>
          <a:xfrm>
            <a:off x="6969240" y="2781360"/>
            <a:ext cx="2441520" cy="457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常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2195000" cy="1628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7"/>
          <p:cNvSpPr/>
          <p:nvPr/>
        </p:nvSpPr>
        <p:spPr>
          <a:xfrm>
            <a:off x="1997640" y="2565360"/>
            <a:ext cx="7898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8"/>
          <p:cNvSpPr/>
          <p:nvPr/>
        </p:nvSpPr>
        <p:spPr>
          <a:xfrm>
            <a:off x="1843200" y="1455840"/>
            <a:ext cx="869760" cy="869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 Narrow"/>
                <a:ea typeface="微软雅黑"/>
              </a:rPr>
              <a:t>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9"/>
          <p:cNvSpPr/>
          <p:nvPr/>
        </p:nvSpPr>
        <p:spPr>
          <a:xfrm>
            <a:off x="1273320" y="229716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 Narrow"/>
                <a:ea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44400" y="4797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新业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90680" y="174780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成本的压力，环保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催生船舶大型化与新型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0960" y="3141720"/>
            <a:ext cx="358128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08480" y="3141720"/>
            <a:ext cx="3576600" cy="2373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113680" y="3141720"/>
            <a:ext cx="35766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"/>
                            </p:stCondLst>
                            <p:childTnLst>
                              <p:par>
                                <p:cTn id="2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"/>
                            </p:stCondLst>
                            <p:childTnLst>
                              <p:par>
                                <p:cTn id="2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90680" y="1557360"/>
            <a:ext cx="902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资金的压力、金融的诉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促使船舶资产与运行管理加速分离，加速资产证券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60960" y="3141720"/>
            <a:ext cx="5646600" cy="2457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84240" y="3141720"/>
            <a:ext cx="3960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90680" y="15573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市场的风险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微软雅黑"/>
              </a:rPr>
              <a:t>运价剧烈波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使运价衍生品成为企业内在的需求，成为对冲风险的有效工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745320" y="1557360"/>
            <a:ext cx="4910040" cy="2087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02040" y="3462480"/>
            <a:ext cx="5327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5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椭圆 32" descr=""/>
          <p:cNvPicPr/>
          <p:nvPr/>
        </p:nvPicPr>
        <p:blipFill>
          <a:blip r:embed="rId2"/>
          <a:stretch/>
        </p:blipFill>
        <p:spPr>
          <a:xfrm>
            <a:off x="5745240" y="1989000"/>
            <a:ext cx="841320" cy="84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73760" y="2133720"/>
            <a:ext cx="55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5"/>
          <p:cNvSpPr/>
          <p:nvPr/>
        </p:nvSpPr>
        <p:spPr>
          <a:xfrm>
            <a:off x="6469200" y="2612880"/>
            <a:ext cx="401400" cy="30348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5"/>
          <p:cNvSpPr/>
          <p:nvPr/>
        </p:nvSpPr>
        <p:spPr>
          <a:xfrm flipH="1">
            <a:off x="6969240" y="2565360"/>
            <a:ext cx="2441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椭圆 37"/>
          <p:cNvGrpSpPr/>
          <p:nvPr/>
        </p:nvGrpSpPr>
        <p:grpSpPr>
          <a:xfrm>
            <a:off x="5081760" y="2990880"/>
            <a:ext cx="860400" cy="871560"/>
            <a:chOff x="5081760" y="2990880"/>
            <a:chExt cx="860400" cy="871560"/>
          </a:xfrm>
        </p:grpSpPr>
        <p:pic>
          <p:nvPicPr>
            <p:cNvPr id="97" name="椭圆 37" descr=""/>
            <p:cNvPicPr/>
            <p:nvPr/>
          </p:nvPicPr>
          <p:blipFill>
            <a:blip r:embed="rId3"/>
            <a:stretch/>
          </p:blipFill>
          <p:spPr>
            <a:xfrm>
              <a:off x="5081760" y="2990880"/>
              <a:ext cx="860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227920" y="3141720"/>
              <a:ext cx="56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Impact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5"/>
          <p:cNvSpPr/>
          <p:nvPr/>
        </p:nvSpPr>
        <p:spPr>
          <a:xfrm>
            <a:off x="6259680" y="3965400"/>
            <a:ext cx="2441520" cy="457200"/>
          </a:xfrm>
          <a:custGeom>
            <a:avLst/>
            <a:gdLst/>
            <a:ahLst/>
            <a:rect l="l" t="t" r="r" b="b"/>
            <a:pathLst>
              <a:path w="3783604" h="689605">
                <a:moveTo>
                  <a:pt x="39188" y="0"/>
                </a:moveTo>
                <a:lnTo>
                  <a:pt x="3783604" y="0"/>
                </a:lnTo>
                <a:lnTo>
                  <a:pt x="3783604" y="689605"/>
                </a:lnTo>
                <a:lnTo>
                  <a:pt x="0" y="572039"/>
                </a:lnTo>
                <a:lnTo>
                  <a:pt x="391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9"/>
          <p:cNvSpPr/>
          <p:nvPr/>
        </p:nvSpPr>
        <p:spPr>
          <a:xfrm>
            <a:off x="6248520" y="3860640"/>
            <a:ext cx="2441520" cy="457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格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40"/>
          <p:cNvSpPr/>
          <p:nvPr/>
        </p:nvSpPr>
        <p:spPr>
          <a:xfrm>
            <a:off x="5772240" y="3711600"/>
            <a:ext cx="401400" cy="30312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椭圆 42"/>
          <p:cNvGrpSpPr/>
          <p:nvPr/>
        </p:nvGrpSpPr>
        <p:grpSpPr>
          <a:xfrm>
            <a:off x="4361040" y="4149720"/>
            <a:ext cx="865080" cy="865080"/>
            <a:chOff x="4361040" y="4149720"/>
            <a:chExt cx="865080" cy="865080"/>
          </a:xfrm>
        </p:grpSpPr>
        <p:pic>
          <p:nvPicPr>
            <p:cNvPr id="103" name="椭圆 42" descr=""/>
            <p:cNvPicPr/>
            <p:nvPr/>
          </p:nvPicPr>
          <p:blipFill>
            <a:blip r:embed="rId4"/>
            <a:stretch/>
          </p:blipFill>
          <p:spPr>
            <a:xfrm>
              <a:off x="4361040" y="41497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10080" y="4295880"/>
              <a:ext cx="569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Impact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15"/>
          <p:cNvSpPr/>
          <p:nvPr/>
        </p:nvSpPr>
        <p:spPr>
          <a:xfrm>
            <a:off x="5562720" y="5064120"/>
            <a:ext cx="2441520" cy="457200"/>
          </a:xfrm>
          <a:custGeom>
            <a:avLst/>
            <a:gdLst/>
            <a:ahLst/>
            <a:rect l="l" t="t" r="r" b="b"/>
            <a:pathLst>
              <a:path w="3783604" h="689605">
                <a:moveTo>
                  <a:pt x="39188" y="0"/>
                </a:moveTo>
                <a:lnTo>
                  <a:pt x="3783604" y="0"/>
                </a:lnTo>
                <a:lnTo>
                  <a:pt x="3783604" y="689605"/>
                </a:lnTo>
                <a:lnTo>
                  <a:pt x="0" y="572039"/>
                </a:lnTo>
                <a:lnTo>
                  <a:pt x="391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>
                  <a:alpha val="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4"/>
          <p:cNvSpPr/>
          <p:nvPr/>
        </p:nvSpPr>
        <p:spPr>
          <a:xfrm>
            <a:off x="5532480" y="4941720"/>
            <a:ext cx="2516040" cy="457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业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45"/>
          <p:cNvSpPr/>
          <p:nvPr/>
        </p:nvSpPr>
        <p:spPr>
          <a:xfrm>
            <a:off x="5076720" y="4809960"/>
            <a:ext cx="401760" cy="303480"/>
          </a:xfrm>
          <a:prstGeom prst="line">
            <a:avLst/>
          </a:prstGeom>
          <a:ln w="25560">
            <a:solidFill>
              <a:srgbClr val="a4def4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7"/>
          <p:cNvSpPr/>
          <p:nvPr/>
        </p:nvSpPr>
        <p:spPr>
          <a:xfrm>
            <a:off x="1997640" y="2565360"/>
            <a:ext cx="7898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8"/>
          <p:cNvSpPr/>
          <p:nvPr/>
        </p:nvSpPr>
        <p:spPr>
          <a:xfrm>
            <a:off x="1843200" y="1455840"/>
            <a:ext cx="869760" cy="869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 Narrow"/>
                <a:ea typeface="微软雅黑"/>
              </a:rPr>
              <a:t>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1273320" y="229716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 Narrow"/>
                <a:ea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3960" y="23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新常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90680" y="1557360"/>
            <a:ext cx="869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互联网的应用、承与托运人地位的不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将改变现在的销售格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466040" y="2060640"/>
            <a:ext cx="4392720" cy="2365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849320" y="3141720"/>
            <a:ext cx="6607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90680" y="155736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联盟的产生、服务的同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将加速船运企业去品牌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50960" y="2924280"/>
            <a:ext cx="4427640" cy="3092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313320" y="2205000"/>
            <a:ext cx="4257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90680" y="1557360"/>
            <a:ext cx="989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科技的发展，新技术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使运输工具与社会分工带来新的革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（清洁能源、新型涂料、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3D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打印、岸基供电、移动通讯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··· ···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52600" y="3141720"/>
            <a:ext cx="10225080" cy="2998800"/>
            <a:chOff x="552600" y="3141720"/>
            <a:chExt cx="10225080" cy="29988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8258040" y="3141720"/>
              <a:ext cx="251964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5737320" y="4078440"/>
              <a:ext cx="2879640" cy="20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2928960" y="3141720"/>
              <a:ext cx="302580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"/>
            <a:stretch/>
          </p:blipFill>
          <p:spPr>
            <a:xfrm>
              <a:off x="552600" y="3934080"/>
              <a:ext cx="2736720" cy="205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90680" y="1557360"/>
            <a:ext cx="869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、改革的推动、民营的崛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推动新一轮的改革，催生新的行业领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8560" y="54936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业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2960" y="3429000"/>
            <a:ext cx="9698040" cy="1554120"/>
            <a:chOff x="912960" y="3429000"/>
            <a:chExt cx="9698040" cy="155412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912960" y="3581280"/>
              <a:ext cx="249696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3481560" y="3581280"/>
              <a:ext cx="18716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5713560" y="3581280"/>
              <a:ext cx="144144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7370640" y="3581280"/>
              <a:ext cx="151128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5"/>
            <a:stretch/>
          </p:blipFill>
          <p:spPr>
            <a:xfrm>
              <a:off x="9242280" y="3581280"/>
              <a:ext cx="13687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2195000" cy="1700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" descr="D:\bei\PPT图片\习近平视察航交所1.jpg"/>
          <p:cNvPicPr/>
          <p:nvPr/>
        </p:nvPicPr>
        <p:blipFill>
          <a:blip r:embed="rId1"/>
          <a:srcRect l="2495" t="0" r="0" b="0"/>
          <a:stretch/>
        </p:blipFill>
        <p:spPr>
          <a:xfrm>
            <a:off x="3287880" y="1700280"/>
            <a:ext cx="5833800" cy="39909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60600" y="404280"/>
            <a:ext cx="9246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微软雅黑"/>
                <a:ea typeface="微软雅黑"/>
              </a:rPr>
              <a:t>习近平总书记：“唯改革者进，唯创新者强，唯改    革创新者胜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0" y="-395280"/>
            <a:ext cx="12192120" cy="7648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089680" y="237960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航运业的取胜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969320" y="1484280"/>
            <a:ext cx="32576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68240" y="2276640"/>
            <a:ext cx="853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华文新魏"/>
              </a:rPr>
              <a:t>谢谢大家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65680" y="4005360"/>
            <a:ext cx="65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与全球经济贸易增长率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65680" y="4724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与运力与供应过剩程度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65680" y="5373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与市场竞争行业集中度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04960" y="47628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华文新魏"/>
              </a:rPr>
              <a:t>新常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65680" y="1413000"/>
            <a:ext cx="403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经济低速增长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运力持续过剩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运价难以高涨 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933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微软雅黑"/>
              </a:rPr>
              <a:t>集装箱运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"/>
                            </p:stCondLst>
                            <p:childTnLst>
                              <p:par>
                                <p:cTn id="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8560" y="549360"/>
            <a:ext cx="98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alibri"/>
                <a:ea typeface="华文新魏"/>
              </a:rPr>
              <a:t>国际集装箱运价走势与全球经济、贸易增长率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2859840"/>
            <a:ext cx="375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Calibri"/>
                <a:ea typeface="仿宋_GB2312"/>
              </a:rPr>
              <a:t>        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据测算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,1999-2013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CCFI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运价水平与世界经济的相关系数为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0.58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、与国际贸易额的相关系数为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0.59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；而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08-2013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相关系数更分别达到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0.76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和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0.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（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1999-2013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美国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PMI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指数和美国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GDP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的相关系数为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0.62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，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08-2013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则达到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0.80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01680" y="2133720"/>
            <a:ext cx="5529240" cy="307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36600" y="2204280"/>
            <a:ext cx="345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CCF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与世界经济、贸易增长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8560" y="549360"/>
            <a:ext cx="98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国际集装箱运价走势与全球经济、贸易增长率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8240" y="1537200"/>
            <a:ext cx="10958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仿宋_GB2312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分航线来看，美西航线、欧洲航线运价指数与美国经济、欧洲经济的相关系数分别达到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0.78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0.44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20960" y="3429000"/>
            <a:ext cx="4390920" cy="216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81680" y="2565360"/>
            <a:ext cx="4248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8560" y="549360"/>
            <a:ext cx="10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国际集装箱运价走势与全球经济、贸易增长率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880" y="1391040"/>
            <a:ext cx="1123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经济贸易低速增长：中国经济将从高速增长转向平稳增长，美国逐步恢复，欧洲继续低迷。集装箱年运价平均值出现大幅增长的可能性不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97680" y="3323160"/>
            <a:ext cx="34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99"/>
                </a:solidFill>
                <a:latin typeface="Calibri"/>
                <a:ea typeface="楷体_GB2312"/>
              </a:rPr>
              <a:t>        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全球经济于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至拐点，班轮市场整体行情走势也基本于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进入拐点，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震荡徘徊，蓄势反弹，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6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可能逐渐回升至相对高位水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28600" y="2708280"/>
            <a:ext cx="66261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8560" y="549360"/>
            <a:ext cx="10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alibri"/>
                <a:ea typeface="华文新魏"/>
              </a:rPr>
              <a:t>国际集装箱运价走势与全球经济、贸易增长率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960" y="237996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        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美国航线运价将于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下半年、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6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回归至一个相对高位，并在相当长的一段时间内维持小幅震荡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9440" y="4727880"/>
            <a:ext cx="33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        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欧洲航线运价目前还处于震荡期，有可能要到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6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下半年、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2017</a:t>
            </a:r>
            <a:r>
              <a:rPr b="1" lang="zh-CN" sz="1600" spc="-1" strike="noStrike">
                <a:solidFill>
                  <a:srgbClr val="339933"/>
                </a:solidFill>
                <a:latin typeface="微软雅黑"/>
                <a:ea typeface="微软雅黑"/>
              </a:rPr>
              <a:t>年才能逐渐回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60840" y="1484280"/>
            <a:ext cx="7018560" cy="23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60840" y="4005360"/>
            <a:ext cx="7018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7680" y="4030560"/>
            <a:ext cx="4707000" cy="1990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08000" y="4005360"/>
            <a:ext cx="4707000" cy="1987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98560" y="549360"/>
            <a:ext cx="10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alibri"/>
                <a:ea typeface="华文新魏"/>
              </a:rPr>
              <a:t>国际集装箱运价走势与运力供应过剩程度成反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97680" y="2009880"/>
            <a:ext cx="4707000" cy="1779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984240" y="1989000"/>
            <a:ext cx="4687920" cy="18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00240" y="1268280"/>
            <a:ext cx="85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CCFI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综合指数及典型航线指数与供需关系的相关系数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8560" y="549360"/>
            <a:ext cx="10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alibri"/>
                <a:ea typeface="华文新魏"/>
              </a:rPr>
              <a:t>国际集装箱运价走势与行业集中度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2960" y="1724400"/>
            <a:ext cx="105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Calibri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微软雅黑"/>
              </a:rPr>
              <a:t>班轮运价走势与市场竞争密切相关。历次运价指数低谷往往是班轮公司并购高潮期，提高行业集中度，同时拆解运力，使航运市场从衰退走向繁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31880" y="3303000"/>
            <a:ext cx="8930880" cy="2430720"/>
            <a:chOff x="1631880" y="3303000"/>
            <a:chExt cx="8930880" cy="24307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631880" y="3454200"/>
              <a:ext cx="893088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86920" y="3303000"/>
              <a:ext cx="5140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CCFI</a:t>
              </a:r>
              <a:r>
                <a:rPr b="1" lang="zh-CN" sz="1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走势周期图（</a:t>
              </a:r>
              <a:r>
                <a:rPr b="1" lang="zh-CN" sz="1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998-2013</a:t>
              </a:r>
              <a:r>
                <a:rPr b="1" lang="zh-CN" sz="1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05:26:34Z</dcterms:created>
  <dc:creator>wj</dc:creator>
  <dc:description/>
  <dc:language>en-US</dc:language>
  <cp:lastModifiedBy>wj</cp:lastModifiedBy>
  <dcterms:modified xsi:type="dcterms:W3CDTF">2014-11-27T01:18:15Z</dcterms:modified>
  <cp:revision>54</cp:revision>
  <dc:subject/>
  <dc:title>新常态  新格局  新业态 </dc:title>
</cp:coreProperties>
</file>