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320" y="388404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3728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5304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0812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832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5304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0812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5360" y="355320"/>
            <a:ext cx="108745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3728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8320" y="388404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3728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5304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08120" y="121896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832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5304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08120" y="3884040"/>
            <a:ext cx="3480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5360" y="355320"/>
            <a:ext cx="108745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37280" y="388404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37280" y="1218960"/>
            <a:ext cx="5274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8320" y="3884040"/>
            <a:ext cx="10809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46"/>
          <p:cNvSpPr/>
          <p:nvPr/>
        </p:nvSpPr>
        <p:spPr>
          <a:xfrm>
            <a:off x="0" y="1114560"/>
            <a:ext cx="9144000" cy="0"/>
          </a:xfrm>
          <a:prstGeom prst="line">
            <a:avLst/>
          </a:prstGeom>
          <a:ln w="19080">
            <a:solidFill>
              <a:srgbClr val="308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040280" y="6454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pic>
        <p:nvPicPr>
          <p:cNvPr id="2" name="图片 35" descr=""/>
          <p:cNvPicPr/>
          <p:nvPr/>
        </p:nvPicPr>
        <p:blipFill>
          <a:blip r:embed="rId2"/>
          <a:srcRect l="536" t="4591" r="0" b="28556"/>
          <a:stretch/>
        </p:blipFill>
        <p:spPr>
          <a:xfrm>
            <a:off x="0" y="1266840"/>
            <a:ext cx="1219032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矩形 36"/>
          <p:cNvSpPr/>
          <p:nvPr/>
        </p:nvSpPr>
        <p:spPr>
          <a:xfrm>
            <a:off x="419040" y="276120"/>
            <a:ext cx="11369880" cy="6581880"/>
          </a:xfrm>
          <a:prstGeom prst="rect">
            <a:avLst/>
          </a:prstGeom>
          <a:solidFill>
            <a:srgbClr val="ffffff">
              <a:alpha val="92000"/>
            </a:srgbClr>
          </a:solidFill>
          <a:ln w="25560">
            <a:solidFill>
              <a:srgbClr val="ffffff"/>
            </a:solidFill>
            <a:miter/>
          </a:ln>
          <a:effectLst>
            <a:outerShdw dist="25560" dir="16200000" blurRad="0" rotWithShape="0">
              <a:srgbClr val="000000">
                <a:alpha val="1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8cc1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1" marL="357120" indent="-285840" algn="just">
              <a:lnSpc>
                <a:spcPct val="110000"/>
              </a:lnSpc>
              <a:spcBef>
                <a:spcPts val="1599"/>
              </a:spcBef>
              <a:buClr>
                <a:srgbClr val="2d9c9f"/>
              </a:buClr>
              <a:buFont typeface="仿宋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1219500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pic>
        <p:nvPicPr>
          <p:cNvPr id="7" name="Picture 15" descr="artplus_nature_naturalcity42_f"/>
          <p:cNvPicPr/>
          <p:nvPr/>
        </p:nvPicPr>
        <p:blipFill>
          <a:blip r:embed="rId3"/>
          <a:stretch/>
        </p:blipFill>
        <p:spPr>
          <a:xfrm>
            <a:off x="10518840" y="6019920"/>
            <a:ext cx="16761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1" descr=""/>
          <p:cNvPicPr/>
          <p:nvPr/>
        </p:nvPicPr>
        <p:blipFill>
          <a:blip r:embed="rId2"/>
          <a:srcRect l="536" t="20740" r="0" b="25268"/>
          <a:stretch/>
        </p:blipFill>
        <p:spPr>
          <a:xfrm>
            <a:off x="4680" y="0"/>
            <a:ext cx="12190320" cy="373536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3527280"/>
            <a:ext cx="12195000" cy="565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5360" y="355320"/>
            <a:ext cx="10874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8cc1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358cc1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98320" y="121896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1" marL="357120" indent="-285840" algn="just">
              <a:lnSpc>
                <a:spcPct val="110000"/>
              </a:lnSpc>
              <a:spcBef>
                <a:spcPts val="1599"/>
              </a:spcBef>
              <a:buClr>
                <a:srgbClr val="2d9c9f"/>
              </a:buClr>
              <a:buFont typeface="仿宋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599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609120" y="624492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416736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649680" y="4220640"/>
            <a:ext cx="4968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黑体"/>
              </a:rPr>
              <a:t>徐祖远  中国航海学会</a:t>
            </a:r>
            <a:endParaRPr b="0" lang="en-US" sz="2400" spc="-1" strike="noStrike">
              <a:solidFill>
                <a:srgbClr val="0000cc"/>
              </a:solidFill>
              <a:latin typeface="黑体"/>
            </a:endParaRPr>
          </a:p>
          <a:p>
            <a:pPr algn="ctr"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2014.11.27</a:t>
            </a:r>
            <a:endParaRPr b="0" lang="en-US" sz="24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6600" y="1197000"/>
            <a:ext cx="11444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Arial"/>
                <a:ea typeface="华文新魏"/>
              </a:rPr>
              <a:t>航运创新发展的必要条件</a:t>
            </a:r>
            <a:endParaRPr b="0" lang="en-US" sz="80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09320" y="1412640"/>
            <a:ext cx="972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创新的方式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政策制度创新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市场监管创新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技术人才创新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微软雅黑"/>
              </a:rPr>
              <a:t>二、航运创新发展的目的、载体和方式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739960" y="3857760"/>
            <a:ext cx="7561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cc"/>
                </a:solidFill>
                <a:latin typeface="Arial"/>
                <a:ea typeface="华文新魏"/>
              </a:rPr>
              <a:t>谢谢大家！</a:t>
            </a:r>
            <a:endParaRPr b="0" lang="en-US" sz="96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712960" y="3017880"/>
            <a:ext cx="712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  <a:ea typeface="微软雅黑"/>
              </a:rPr>
              <a:t>一、航运创新发展的必要条件</a:t>
            </a:r>
            <a:endParaRPr b="0" lang="en-US" sz="36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49320" y="155700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政策引导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自贸区政策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海运国家战略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“二带一路”布局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创艺简粗黑"/>
              </a:rPr>
              <a:t>一、航运创新发展的必要条件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849320" y="1557000"/>
            <a:ext cx="108093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市场主导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市场需求是航运创新的直接动力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市场需求主导下的航运创新其核心：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服务客户、上下游产业链共同参与，共同创造附加值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创艺简粗黑"/>
              </a:rPr>
              <a:t>一、航运创新发展的必要条件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849320" y="1557000"/>
            <a:ext cx="95774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企业的主动性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企业是航运创新的主体，要充分发挥航运相关企业在创新中的主体作用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企业主动性是航运创新发展的根本，要充分调动航运相关企业创新发展的能动性和积极性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创艺简粗黑"/>
              </a:rPr>
              <a:t>一、航运创新发展的必要条件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849320" y="1557000"/>
            <a:ext cx="95774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文化环境：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客观评价：我国航运文化与航运经济发展失衡。 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理念创新很难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文化认同是航运创新的主动力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航运组织、社团、功能性机构是培育航运创新文化和社会环境的重要驱动者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创艺简粗黑"/>
              </a:rPr>
              <a:t>一、航运创新发展的必要条件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712960" y="3017880"/>
            <a:ext cx="82803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  <a:ea typeface="微软雅黑"/>
              </a:rPr>
              <a:t>二、航运创新发展的目的、载体和方式</a:t>
            </a:r>
            <a:endParaRPr b="0" lang="en-US" sz="3600" spc="-1" strike="noStrike">
              <a:solidFill>
                <a:srgbClr val="47494b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320" y="1412640"/>
            <a:ext cx="972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创新的目的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提高效率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降低成本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优化服务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(4)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扩大航运附加值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微软雅黑"/>
              </a:rPr>
              <a:t>二、航运创新发展的目的、载体和方式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09320" y="1412640"/>
            <a:ext cx="972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599"/>
              </a:spcBef>
              <a:buClr>
                <a:srgbClr val="0000cc"/>
              </a:buClr>
              <a:buSzPct val="60000"/>
              <a:buFont typeface="黑体"/>
              <a:buChar char="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创新的载体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金融服务、航运交易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物联网、大数据平台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  <a:p>
            <a:pPr marL="361800" indent="0" algn="just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）航运企业、相关服务机构</a:t>
            </a:r>
            <a:endParaRPr b="0" lang="en-US" sz="3200" spc="-1" strike="noStrike">
              <a:solidFill>
                <a:srgbClr val="0000cc"/>
              </a:solidFill>
              <a:latin typeface="黑体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96960" y="69228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cc1"/>
                </a:solidFill>
                <a:latin typeface="Calibri"/>
                <a:ea typeface="微软雅黑"/>
              </a:rPr>
              <a:t>二、航运创新发展的目的、载体和方式</a:t>
            </a:r>
            <a:endParaRPr b="0" lang="en-US" sz="2400" spc="-1" strike="noStrike">
              <a:solidFill>
                <a:srgbClr val="47494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5:26:34Z</dcterms:created>
  <dc:creator>wj</dc:creator>
  <dc:description/>
  <dc:language>en-US</dc:language>
  <cp:lastModifiedBy>licx</cp:lastModifiedBy>
  <dcterms:modified xsi:type="dcterms:W3CDTF">2014-11-26T23:51:22Z</dcterms:modified>
  <cp:revision>37</cp:revision>
  <dc:subject/>
  <dc:title>新常态  新格局  新业态 </dc:title>
</cp:coreProperties>
</file>